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1C6E6-B9EB-41EE-AB40-9351B9890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6BE2D-05C3-4739-9820-EA1D20A5A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B3433-5105-4887-8376-656E8FA73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54FDB-5F37-434F-B6AA-56CEB2126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2DB606-E3AA-4F72-B991-89D3018E6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A37F6-2799-4710-8C03-2BCC9EEC3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2782F-655B-4BEA-820B-B48F2A70E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ED862-5ECE-4A25-ADB2-E65968198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D5BA8-0660-4E9E-9ADC-A0E7ADE64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E064C-BDEC-4F8C-95BD-079D9A821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C3135-7B3B-40CE-920D-5090B8FA6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0A8F2-8CD3-4F0F-BF8D-D5928FF2A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4F854-69A2-4394-A5A2-11387A9C6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14A95-A335-46B2-8283-F4FD77C14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68526-3BDE-4FE7-A864-11B5A3F21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3955F7-71D5-45BA-9ACB-5E1E991378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DE8D8C-4C12-41EA-96D9-1ED9209792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D1C26-4722-48E0-9BCF-188EF0FCA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61A63-50C9-4460-BDB7-78C3A934C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E9AE9-EB29-48B0-9C35-FA16FAF62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D4F96-4379-4333-93BA-81715FC40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483D1-DEED-4FBA-885A-A38EE2B59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F42CB-1C96-4042-9D9E-B23D10604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5A94B-FDA5-4D29-87AC-51B9012D2A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261F2-DD50-465E-883E-FAED91AA2A7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C752-2864-4ACF-A22C-6CF8F998698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ipublib.org/eventsprog/programs/kids/grkids_museumpass.php" TargetMode="External"/><Relationship Id="rId3" Type="http://schemas.openxmlformats.org/officeDocument/2006/relationships/hyperlink" Target="http://www.chipublib.org/eventsprog/programs/kids/grkids_museumpass.php" TargetMode="External"/><Relationship Id="rId4" Type="http://schemas.openxmlformats.org/officeDocument/2006/relationships/hyperlink" Target="http://www.chipublib.org/eventsprog/programs/kids/grkids_museumpass.php" TargetMode="External"/><Relationship Id="rId5" Type="http://schemas.openxmlformats.org/officeDocument/2006/relationships/hyperlink" Target="http://www.chipublib.org/eventsprog/programs/kids/grkids_museumpass.php" TargetMode="External"/><Relationship Id="rId6" Type="http://schemas.openxmlformats.org/officeDocument/2006/relationships/hyperlink" Target="http://www.chipublib.org/eventsprog/programs/kids/grkids_museumpass.php" TargetMode="External"/><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ipublib.org/events/details/id/24747/" TargetMode="External"/><Relationship Id="rId3" Type="http://schemas.openxmlformats.org/officeDocument/2006/relationships/hyperlink" Target="http://www.chipublib.org/events/details/id/24747/" TargetMode="External"/><Relationship Id="rId4" Type="http://schemas.openxmlformats.org/officeDocument/2006/relationships/hyperlink" Target="http://www.chipublib.org/events/details/id/24747/" TargetMode="External"/><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371240"/>
            <a:ext cx="7848720" cy="30481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Bilingual 4220: Teaching Fine Arts and the Humanities in Linguistically Diverse Classrooms</a:t>
            </a:r>
            <a:endParaRPr b="0" lang="en-US" sz="4400" spc="-1" strike="noStrike">
              <a:solidFill>
                <a:srgbClr val="ffffff"/>
              </a:solidFill>
              <a:latin typeface="Comic Sans MS"/>
            </a:endParaRPr>
          </a:p>
        </p:txBody>
      </p:sp>
      <p:sp>
        <p:nvSpPr>
          <p:cNvPr id="83" name="PlaceHolder 2"/>
          <p:cNvSpPr>
            <a:spLocks noGrp="1"/>
          </p:cNvSpPr>
          <p:nvPr>
            <p:ph type="subTitle"/>
          </p:nvPr>
        </p:nvSpPr>
        <p:spPr>
          <a:xfrm>
            <a:off x="2436480" y="4602240"/>
            <a:ext cx="4267080" cy="134136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pril 2, 2009</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2286000"/>
            <a:ext cx="7772400" cy="35812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nce in the classroom</a:t>
            </a:r>
            <a:endParaRPr b="0" lang="en-US" sz="32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d strategies for teaching dance concepts</a:t>
            </a:r>
            <a:endParaRPr b="0" lang="en-US" sz="32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d strategies for dance</a:t>
            </a:r>
            <a:endParaRPr b="0" lang="en-US" sz="32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ion of dance</a:t>
            </a:r>
            <a:endParaRPr b="0" lang="en-US" sz="3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0" name=""/>
          <p:cNvSpPr/>
          <p:nvPr/>
        </p:nvSpPr>
        <p:spPr>
          <a:xfrm>
            <a:off x="1371600" y="1295280"/>
            <a:ext cx="5715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pic>
        <p:nvPicPr>
          <p:cNvPr id="101" name="" descr=""/>
          <p:cNvPicPr/>
          <p:nvPr/>
        </p:nvPicPr>
        <p:blipFill>
          <a:blip r:embed="rId2"/>
          <a:srcRect l="21406" t="21432" r="0" b="0"/>
          <a:stretch/>
        </p:blipFill>
        <p:spPr>
          <a:xfrm>
            <a:off x="6324480" y="3581280"/>
            <a:ext cx="1882800" cy="25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2286000" y="685800"/>
            <a:ext cx="4191120" cy="3124080"/>
          </a:xfrm>
          <a:prstGeom prst="rect">
            <a:avLst/>
          </a:prstGeom>
          <a:ln w="0">
            <a:noFill/>
          </a:ln>
        </p:spPr>
      </p:pic>
      <p:sp>
        <p:nvSpPr>
          <p:cNvPr id="103" name=""/>
          <p:cNvSpPr/>
          <p:nvPr/>
        </p:nvSpPr>
        <p:spPr>
          <a:xfrm>
            <a:off x="533520" y="3733920"/>
            <a:ext cx="7995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enefits of Dance Educa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thy DeJean, lifelong dancer and dance educator at Lusher Alternative Elementary School in New Orleans, Louisiana, makes these observations abou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nce educa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600200"/>
            <a:ext cx="7772400" cy="44956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Dance for children is much needed in a school curriculum along with physical education, because it explores their potential in movement ... on any size, shape, or color of body.”</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2133720"/>
            <a:ext cx="7772400" cy="39621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I get a lot of feedback from classroom teachers who say, ‘I can tell these children have been with you and had dance because they are more assertive — not aggressive, but more assertive in their thinking and being able to share their thought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676520"/>
            <a:ext cx="7772400" cy="44193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Dance is a good experience for children who have a hard time sitting down. Once they come to movement and burn off some of that energy, they can focus on more sequential, factual information.”</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9807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Boys do like to dance. I start them off using the word ‘movement.’ Some boys are beautiful at movement. They get to explore that. Girls widen their perspective. They see that it is not just one style — dance is about what you think, what you feel, what you see.”</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609480"/>
            <a:ext cx="7772400" cy="54864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 P.S. 156, The Waverly School of the Arts in Brooklyn, New York, former physical education teacher Scott Pivnik now teaches dance and movement, say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1523880"/>
            <a:ext cx="7772400" cy="45720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The nice thing about dance is that it is nonconfrontational and completely cooperative. You learn how to work together as a group to make a final product, and everybody has to participate in order for it to look good.”</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1676520"/>
            <a:ext cx="7772400" cy="44193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Some people are going to look at this whole thing and say, ‘How do you know this is working?’ You just have to come in and look at it. There’s a level of self-confidence that develops, a level of poise that comes from this. Deep down inside it’s: ‘Wow, I can do thi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Before watching:</a:t>
            </a:r>
            <a:endParaRPr b="0" lang="en-US" sz="4000" spc="-1" strike="noStrike">
              <a:solidFill>
                <a:srgbClr val="ffffff"/>
              </a:solidFill>
              <a:latin typeface="Comic Sans MS"/>
            </a:endParaRPr>
          </a:p>
        </p:txBody>
      </p:sp>
      <p:sp>
        <p:nvSpPr>
          <p:cNvPr id="11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s you watch the program, consider the benefits of each approach:</a:t>
            </a: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In what circumstances would each be effective?</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How would you incorporate each into an integrated curriculum unit?</a:t>
            </a: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371600"/>
            <a:ext cx="77724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nnouncements</a:t>
            </a:r>
            <a:endParaRPr b="0" lang="en-US" sz="4000" spc="-1" strike="noStrike">
              <a:solidFill>
                <a:srgbClr val="ffffff"/>
              </a:solidFill>
              <a:latin typeface="Comic Sans MS"/>
            </a:endParaRPr>
          </a:p>
        </p:txBody>
      </p:sp>
      <p:sp>
        <p:nvSpPr>
          <p:cNvPr id="8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 Events</a:t>
            </a:r>
            <a:endParaRPr b="0" lang="en-US" sz="32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inders: next class at the Chicago History; no class April 16 (work on Teaching Philosophy)</a:t>
            </a:r>
            <a:endParaRPr b="0" lang="en-US" sz="3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520" y="1219320"/>
            <a:ext cx="7772400" cy="4114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tch the Program: 30 minutes </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ttp://www.learner.org/libraries/artsineveryclassroom/v3beforewatching.html</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fter watching</a:t>
            </a:r>
            <a:endParaRPr b="0" lang="en-US" sz="4000" spc="-1" strike="noStrike">
              <a:solidFill>
                <a:srgbClr val="ffffff"/>
              </a:solidFill>
              <a:latin typeface="Comic Sans MS"/>
            </a:endParaRPr>
          </a:p>
        </p:txBody>
      </p:sp>
      <p:sp>
        <p:nvSpPr>
          <p:cNvPr id="11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could dance be incorporated into studies of other subjects, such as social studies, math, and science?</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might you incorporate the natural movements that children do every day into classroom learning?</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066680"/>
            <a:ext cx="7772400" cy="50292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y should dance/movement be integrated (research/theories, and philosophy)?</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at do classroom teachers need to know to integrate dance and movement?</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can dance be integrated (planning, environment, literature, instruction, adaptations, assessment)?</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ome Practice</a:t>
            </a:r>
            <a:endParaRPr b="0" lang="en-US" sz="4000" spc="-1" strike="noStrike">
              <a:solidFill>
                <a:srgbClr val="ffffff"/>
              </a:solidFill>
              <a:latin typeface="Comic Sans MS"/>
            </a:endParaRPr>
          </a:p>
        </p:txBody>
      </p:sp>
      <p:sp>
        <p:nvSpPr>
          <p:cNvPr id="118"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ance word walls</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ters of the alphabet</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ntonyms</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ord of the Day</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ine by Line</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horeograph</a:t>
            </a:r>
            <a:endParaRPr b="0" lang="en-US" sz="4000" spc="-1" strike="noStrike">
              <a:solidFill>
                <a:srgbClr val="ffffff"/>
              </a:solidFill>
              <a:latin typeface="Comic Sans MS"/>
            </a:endParaRPr>
          </a:p>
        </p:txBody>
      </p:sp>
      <p:sp>
        <p:nvSpPr>
          <p:cNvPr id="120"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oose a dance seed strategy from Chapter 11 and guide us through it.</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flections</a:t>
            </a:r>
            <a:endParaRPr b="0" lang="en-US" sz="4000" spc="-1" strike="noStrike">
              <a:solidFill>
                <a:srgbClr val="ffffff"/>
              </a:solidFill>
              <a:latin typeface="Comic Sans MS"/>
            </a:endParaRPr>
          </a:p>
        </p:txBody>
      </p:sp>
      <p:sp>
        <p:nvSpPr>
          <p:cNvPr id="12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iscussion and Exit Ticket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914040"/>
            <a:ext cx="7772400" cy="5181480"/>
          </a:xfrm>
          <a:prstGeom prst="rect">
            <a:avLst/>
          </a:prstGeom>
          <a:noFill/>
          <a:ln w="0">
            <a:noFill/>
          </a:ln>
          <a:effectLst>
            <a:outerShdw dist="17819" dir="2700000" blurRad="0" rotWithShape="0">
              <a:srgbClr val="808080"/>
            </a:outerShdw>
          </a:effectLst>
        </p:spPr>
        <p:txBody>
          <a:bodyPr lIns="90000" rIns="90000" tIns="46800" bIns="46800" anchor="t">
            <a:normAutofit fontScale="97000"/>
          </a:bodyPr>
          <a:p>
            <a:pPr marL="332640" indent="-3326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hicago History Museum: meet there at 5 pm, 1601 N. Clark St.</a:t>
            </a:r>
            <a:endParaRPr b="0" lang="en-US" sz="2800" spc="-1" strike="noStrike">
              <a:solidFill>
                <a:srgbClr val="ffffff"/>
              </a:solidFill>
              <a:latin typeface="Comic Sans MS"/>
            </a:endParaRPr>
          </a:p>
          <a:p>
            <a:pPr marL="332640" indent="-3326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Museum is easy to reach via public transportation. CTA buses 11, 22, 36, 72, 73, 151, and 156 stop nearby. The Brown Line Sedgwick station and Red Line Clark/Division station are also located approximately one half-mile from the Museum</a:t>
            </a:r>
            <a:endParaRPr b="0" lang="en-US" sz="2800" spc="-1" strike="noStrike">
              <a:solidFill>
                <a:srgbClr val="ffffff"/>
              </a:solidFill>
              <a:latin typeface="Comic Sans MS"/>
            </a:endParaRPr>
          </a:p>
          <a:p>
            <a:pPr marL="332640" indent="-3326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ree pass information at </a:t>
            </a:r>
            <a:r>
              <a:rPr b="0" lang="en-US" sz="2800" spc="-1" strike="noStrike" u="sng">
                <a:solidFill>
                  <a:srgbClr val="80ff00"/>
                </a:solidFill>
                <a:uFillTx/>
                <a:latin typeface="Comic Sans MS"/>
                <a:hlinkClick r:id="rId2"/>
              </a:rPr>
              <a:t>http://www.</a:t>
            </a:r>
            <a:r>
              <a:rPr b="0" lang="en-US" sz="2800" spc="-1" strike="noStrike" u="sng">
                <a:solidFill>
                  <a:srgbClr val="80ff00"/>
                </a:solidFill>
                <a:uFillTx/>
                <a:latin typeface="Comic Sans MS"/>
                <a:hlinkClick r:id="rId3"/>
              </a:rPr>
              <a:t>chipublib</a:t>
            </a:r>
            <a:r>
              <a:rPr b="0" lang="en-US" sz="2800" spc="-1" strike="noStrike" u="sng">
                <a:solidFill>
                  <a:srgbClr val="80ff00"/>
                </a:solidFill>
                <a:uFillTx/>
                <a:latin typeface="Comic Sans MS"/>
                <a:hlinkClick r:id="rId4"/>
              </a:rPr>
              <a:t>.</a:t>
            </a:r>
            <a:r>
              <a:rPr b="0" lang="en-US" sz="2800" spc="-1" strike="noStrike" u="sng">
                <a:solidFill>
                  <a:srgbClr val="80ff00"/>
                </a:solidFill>
                <a:uFillTx/>
                <a:latin typeface="Comic Sans MS"/>
                <a:hlinkClick r:id="rId5"/>
              </a:rPr>
              <a:t>org/eventsprog/programs/kids/grkids_museumpass</a:t>
            </a:r>
            <a:r>
              <a:rPr b="0" lang="en-US" sz="2800" spc="-1" strike="noStrike" u="sng">
                <a:solidFill>
                  <a:srgbClr val="80ff00"/>
                </a:solidFill>
                <a:uFillTx/>
                <a:latin typeface="Comic Sans MS"/>
                <a:hlinkClick r:id="rId6"/>
              </a:rPr>
              <a:t>.php</a:t>
            </a:r>
            <a:endParaRPr b="0" lang="en-US" sz="2800" spc="-1" strike="noStrike">
              <a:solidFill>
                <a:srgbClr val="ffffff"/>
              </a:solidFill>
              <a:latin typeface="Comic Sans MS"/>
            </a:endParaRPr>
          </a:p>
          <a:p>
            <a:pPr marL="332640" indent="-3326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r</a:t>
            </a:r>
            <a:endParaRPr b="0" lang="en-US" sz="2800" spc="-1" strike="noStrike">
              <a:solidFill>
                <a:srgbClr val="ffffff"/>
              </a:solidFill>
              <a:latin typeface="Comic Sans MS"/>
            </a:endParaRPr>
          </a:p>
          <a:p>
            <a:pPr marL="332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914040"/>
            <a:ext cx="7772400" cy="51814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dults: $14 with audio tours</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udents (13–22 with ID): $12 with audio tours</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ree for members of the Chicago History Museum, DuSable Museum, and National Museum of Mexican Art.</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dmission includes two audio tours: Chicago: Crossroads of America, a tour developed with the Second City (available in English and Spanish) and In Our Own Words, a tour created by local teens (English)</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3369960"/>
            <a:ext cx="7772400" cy="27255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dra Cisneros, April 14, 6 pm, Harold Washington Library </a:t>
            </a:r>
            <a:r>
              <a:rPr b="0" lang="en-US" sz="3200" spc="-1" strike="noStrike" u="sng">
                <a:solidFill>
                  <a:srgbClr val="80ff00"/>
                </a:solidFill>
                <a:uFillTx/>
                <a:latin typeface="Arial"/>
                <a:hlinkClick r:id="rId2"/>
              </a:rPr>
              <a:t>http://www.</a:t>
            </a:r>
            <a:r>
              <a:rPr b="0" lang="en-US" sz="3200" spc="-1" strike="noStrike" u="sng">
                <a:solidFill>
                  <a:srgbClr val="80ff00"/>
                </a:solidFill>
                <a:uFillTx/>
                <a:latin typeface="Arial"/>
                <a:hlinkClick r:id="rId3"/>
              </a:rPr>
              <a:t>chipublib</a:t>
            </a:r>
            <a:r>
              <a:rPr b="0" lang="en-US" sz="3200" spc="-1" strike="noStrike" u="sng">
                <a:solidFill>
                  <a:srgbClr val="80ff00"/>
                </a:solidFill>
                <a:uFillTx/>
                <a:latin typeface="Arial"/>
                <a:hlinkClick r:id="rId4"/>
              </a:rPr>
              <a:t>.org/events/details/id/24747/</a:t>
            </a:r>
            <a:r>
              <a:rPr b="0" lang="en-US" sz="3200" spc="-1" strike="noStrike">
                <a:solidFill>
                  <a:srgbClr val="ffffff"/>
                </a:solidFill>
                <a:latin typeface="Arial"/>
              </a:rPr>
              <a:t>Free</a:t>
            </a:r>
            <a:endParaRPr b="0" lang="en-US" sz="3200" spc="-1" strike="noStrike">
              <a:solidFill>
                <a:srgbClr val="ffffff"/>
              </a:solidFill>
              <a:latin typeface="Comic Sans MS"/>
            </a:endParaRPr>
          </a:p>
        </p:txBody>
      </p:sp>
      <p:pic>
        <p:nvPicPr>
          <p:cNvPr id="87" name="" descr=""/>
          <p:cNvPicPr/>
          <p:nvPr/>
        </p:nvPicPr>
        <p:blipFill>
          <a:blip r:embed="rId5"/>
          <a:stretch/>
        </p:blipFill>
        <p:spPr>
          <a:xfrm>
            <a:off x="3352680" y="990720"/>
            <a:ext cx="2210040" cy="174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fter-School Workshop on Sandra Cisneros</a:t>
            </a:r>
            <a:endParaRPr b="0" lang="en-US" sz="4000" spc="-1" strike="noStrike">
              <a:solidFill>
                <a:srgbClr val="ffffff"/>
              </a:solidFill>
              <a:latin typeface="Comic Sans MS"/>
            </a:endParaRPr>
          </a:p>
        </p:txBody>
      </p:sp>
      <p:sp>
        <p:nvSpPr>
          <p:cNvPr id="8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ing History and Ourselves, April 15, 4:30-7:00, Bucktown/Wicker Park Branch Library, Free, rsvp </a:t>
            </a:r>
            <a:endParaRPr b="0" lang="en-US" sz="32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Times New Roman"/>
              </a:rPr>
              <a:t>http://www2.facinghistory.org/Campus/Events.nsf/HTMLProfessionalDevelopment/1E8B2B58118487F48525754D0066255D?Opendocument</a:t>
            </a:r>
            <a:endParaRPr b="0" lang="en-US" sz="22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torytelling Performance</a:t>
            </a:r>
            <a:endParaRPr b="0" lang="en-US" sz="4000" spc="-1" strike="noStrike">
              <a:solidFill>
                <a:srgbClr val="ffffff"/>
              </a:solidFill>
              <a:latin typeface="Comic Sans MS"/>
            </a:endParaRPr>
          </a:p>
        </p:txBody>
      </p:sp>
      <p:sp>
        <p:nvSpPr>
          <p:cNvPr id="9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Jumping Jambalaya, Thursday April 9, 3:15-4:15, Hall of Governors, GSU. Free.</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n class:</a:t>
            </a:r>
            <a:endParaRPr b="0" lang="en-US" sz="4000" spc="-1" strike="noStrike">
              <a:solidFill>
                <a:srgbClr val="ffffff"/>
              </a:solidFill>
              <a:latin typeface="Comic Sans MS"/>
            </a:endParaRPr>
          </a:p>
        </p:txBody>
      </p:sp>
      <p:sp>
        <p:nvSpPr>
          <p:cNvPr id="9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en minutes to group-compose a brief article about where we’ve been going and events attended for the Bilingual Education Program newsletter.</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oncepts</a:t>
            </a:r>
            <a:endParaRPr b="0" lang="en-US" sz="4000" spc="-1" strike="noStrike">
              <a:solidFill>
                <a:srgbClr val="ffffff"/>
              </a:solidFill>
              <a:latin typeface="Comic Sans MS"/>
            </a:endParaRPr>
          </a:p>
        </p:txBody>
      </p:sp>
      <p:sp>
        <p:nvSpPr>
          <p:cNvPr id="95" name="PlaceHolder 2"/>
          <p:cNvSpPr>
            <a:spLocks noGrp="1"/>
          </p:cNvSpPr>
          <p:nvPr>
            <p:ph/>
          </p:nvPr>
        </p:nvSpPr>
        <p:spPr>
          <a:xfrm>
            <a:off x="685800" y="2361960"/>
            <a:ext cx="7772400" cy="37335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view of Visual Art Concepts</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amlet revisited</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pril is National Poetry Month! poets.org</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ance</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minder</a:t>
            </a:r>
            <a:endParaRPr b="0" lang="en-US" sz="4000" spc="-1" strike="noStrike">
              <a:solidFill>
                <a:srgbClr val="ffffff"/>
              </a:solidFill>
              <a:latin typeface="Comic Sans MS"/>
            </a:endParaRPr>
          </a:p>
        </p:txBody>
      </p:sp>
      <p:sp>
        <p:nvSpPr>
          <p:cNvPr id="9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gn up online for Open House for Educators, May 11, 2009 </a:t>
            </a:r>
            <a:endParaRPr b="0" lang="en-US" sz="3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www.artic.edu/aic/calendar/event?EventID=5623&amp;ProgramCategory=4</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990360"/>
            <a:ext cx="7772400" cy="51051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Hamlet in Prison</a:t>
            </a:r>
            <a:endParaRPr b="0" lang="en-US" sz="40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ttp://www.youtube.com/watch?v=9cjPcOK_WwU</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2T17:45:58Z</dcterms:created>
  <dc:creator>caitlin halstead</dc:creator>
  <dc:description/>
  <dc:language>en-US</dc:language>
  <cp:lastModifiedBy>caitlin halstead</cp:lastModifiedBy>
  <dcterms:modified xsi:type="dcterms:W3CDTF">2009-04-02T19:12:55Z</dcterms:modified>
  <cp:revision>16</cp:revision>
  <dc:subject/>
  <dc:title>Bilingual 4220: Teaching Fine Arts and the Humanities in Linguistically Diverse Classrooms</dc:title>
</cp:coreProperties>
</file>